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F34-5E51-401D-9808-D40910AEE03C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F0D-FCAA-4B78-A1DA-FA79440CDED4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F92-FDE4-418C-9B9B-EF14D0AA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F62-8953-435B-AE33-0AC6A4F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5912D-1438-4093-909C-F73B89A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ECCB6-C983-41C2-8D28-A8D5197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1C2A-2AD3-44CA-A9FF-06FF209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8E277-478B-4E3A-A220-9365835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CDBF2-0CA1-4D6E-8799-5AA9EB4B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766AE-62C3-47EF-8CB6-3BD7953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EEAEC-5271-4C62-AA40-B07A0D2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D24D3-4365-40DB-8DEA-C2087283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80DA2-2D1A-429B-9ED6-21F103DB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F7BF4-CA50-4AA8-A287-D41DF2C9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4C7-0EF5-49DF-943B-E6247E5C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22713-5603-4456-A231-2606727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FE530-366C-490A-A4EC-AEA8B51A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9E0AC-A9F1-45F9-BD3F-6C648BD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17D63-663A-4621-9F48-593D535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829CD-AFEE-4E4D-9243-BA62B69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F1716-0E3D-4F68-A08F-53CA485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A461C-D039-4D61-BCB8-5A8FAF2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BCD1D-7B7C-4E09-84C1-99559C3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C8BF-117D-4511-A1DD-D46F7B6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0AAC9-2330-4B61-AD99-5167F06C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12B-56A1-459E-A637-7C7001EE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2A39D-DBBA-4CDB-8380-5AFEF19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82E3E-188D-4DB9-AADC-46CC0CD8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11FC2-636A-4C8D-AE40-7C417F6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26B87-06ED-4D33-966F-A8406698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6801C-DDB1-4350-A14A-91D90F1F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614C6-C114-46B9-BEC1-5426F666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8F070-135F-442B-B367-310C06C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5485F-D12C-40F5-ACC7-CB12C2D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271C0-11DC-4134-896D-91FC304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7CDF5-E52D-409E-9406-C11AFCC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156-0F9B-446C-8216-80CAF731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70BE1-720E-4C30-97D5-30643259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258B-123A-4682-A757-44A6B374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0FAC5-EE88-45C8-9BFA-09D6F1E3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A747D-3C79-4F33-A3A7-4D6562A6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AC034-A74B-41AA-89EF-3465DB2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6F43E-2BC1-4647-9AD4-70A81C2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2AD89-7966-4ACE-BF6C-CC120A86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673BB-E251-4A7D-B97E-0D4F674A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BBCA8-7A9F-4310-A9AF-C3C641D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743B3-125D-459B-94D5-3A34079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5626-1D41-44A1-BD1A-0E7F9B2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A9D03-339C-4AF6-AB1B-29910B65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7351C-F4AF-4285-B0CE-1A00111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FEBBD-149B-4551-8D76-0492366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7ACB6-D123-45DA-B2C3-839ED9D2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1E10C-A0D8-483C-8025-87B4012E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A06C-0974-48A5-9F57-63D376E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2D0-35DA-492B-825C-053AF381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55F-9523-43C7-B1A6-7C4117EE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129E-8FA7-407C-88E0-A1C220B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B0F-F2E0-408C-9134-FF99551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7B5-3A08-44B7-BCD1-847FA4A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413-5848-48FE-968E-5417DBB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FD9D-C74A-4CD0-89B0-65E5AA0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4B6A-F60C-4D77-A0A4-0173A32D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471-19F6-48F9-9563-1A4964D4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D442-DE74-41C4-8277-A4B14020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B064-0719-4D3F-8C20-843EF541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D6B1-DA7B-405D-A855-884D908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0481-4180-4496-905D-6D0B5F7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71C0-0F83-4F27-A022-318674B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7AE1-6772-4805-84B7-2665B2D3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571-E160-4A13-ADB5-84E3B79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43FD-F9F1-45AF-AD71-00AF045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339E-5995-496F-BEFE-D11238A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FE31-63DD-4EDE-BC92-7A89E46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B0FC-D4BB-47F5-B36A-11D455C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311D-BE25-4148-89F3-CF65164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95A4-C3E7-4D09-B2A3-1F179F2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2CD3-520C-45C9-A12B-A0578B92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2754-471E-44C4-9342-543F243E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0AD5-AA26-4B64-9D01-67D9C37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C614-A7DE-461B-953C-2585EB6D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B08-66BD-4402-A2A7-FC418C3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9F8A-C76F-42DC-974C-7B08B30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464C-92A0-4652-9A9B-2D8E56C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224D-221D-4B46-9808-D3CE2DEE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EE3A-222D-4BB9-AB76-399874E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E92D-71D6-415A-9457-459A91B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C89B-79D0-4F12-A9D7-9A15698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5178-424A-4C7B-8D40-243AFF2C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EBB5-9118-4760-BC4C-A47A6259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6300-03AA-4474-9796-4F41EB02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603E0-2602-4B1C-AB7C-BEAF175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ECD-12E2-4A9A-B58A-DA91911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F0F6-5B9F-4055-B7F2-856C9684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E12D-B0EA-41E8-8186-2FF3A89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DBFE-1CDE-4E13-89B4-A8E78A2B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9501-85B2-4538-82CC-97F72116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C890-E2B4-41B3-ABEA-08F6EE5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1193-9152-4C69-80B7-B3E44E6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6F5F-BE44-46E5-AFB2-53E5B26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5BB1-E4D7-4136-A105-BD0E6B6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ADF0-CD01-41E9-9E63-B37CD4E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EEC3-9267-43E4-883D-73EAB710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564-10BC-4A5E-BDF0-DB3C5303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F48B-0BD1-4B4E-B3BA-D4BCE3E6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79D2-594D-4B6D-924B-7E496FD2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71C1-90D2-4C62-864B-8272048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CB84-E712-4CDA-944E-77CB6E3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3E9E-63B6-4588-8299-89AA00A1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5F1E-7860-47A8-B1EB-D216A3C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2E49-ED80-4387-8D6D-95DF0EE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AE86-098F-43F6-BEF1-6DDBFE6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DB68D-98AC-4357-B079-BB9E5AE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0A973-7ADB-4354-A101-714F58F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9D8-CE0F-4F21-AFC4-B32595F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33E7-4D5F-4859-A4A7-2A1342A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C8C1-272E-46A3-800C-48837529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52FA-65E5-49C9-9031-AD18FDEC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DC75-7629-4D4B-98C1-085A4221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15E3-5111-463A-8889-FFBA296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8E56-D1C8-4BF3-B849-D7D4304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4456-83D6-4DF7-A875-BDC95A3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122D-30C4-4494-B717-854196A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32E8-3E3D-4B25-8B98-88A06A2F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CB107-8257-4F61-81EA-7F85029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B4A-5599-4DC3-92B2-D346EE5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EB51-A33D-47F4-9E84-890FA83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7BA0-0590-4EB4-B205-AD751AE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19F3-6E6F-4AA3-9E71-2BAF729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EE3B-36E7-448E-BB4A-2B95ECA7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D53A8-5113-43A9-ABB4-D98C9D3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39FD-985B-4591-A348-574BE299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09D6-C83B-4F42-BB11-1AEED05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9947-7385-4142-B2D5-0AD58C0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3C5EA-CE26-4621-8BD5-883B721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DA30-2945-4060-A6BB-C270462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EAC-606A-4CC7-ADFF-B7220C1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37D4B-9A33-43CE-B31A-46A144F4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9CF8-9DBC-4A97-9384-638D7AA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70F3-71C3-4DB0-B939-5C9AA27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70056-5D30-4002-B211-7861B65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3353-923E-4A29-BA67-0CCA2E7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EA703-2A47-44A2-9336-06AF3B0F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3C3A-3312-4E96-8600-D92FB90A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27F9-69C0-444F-925D-A9FBA7EA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6646D-8AA2-4D58-8945-A86AB78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B2144-2E20-48A1-88C2-8C2BB4C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49C-0B22-4725-A1F9-A2231CF1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9E5-F265-4C95-8B0A-22D9A8294A6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E68-3DE6-42BC-8265-D0C661C68F9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125-1493-41BE-825A-953C93A8163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B71-8606-4F5D-88FB-0179841B04C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AEB-D23A-4D4F-B550-C18B46908CE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89A-FAD2-4148-9CEA-65E503CA74A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AD0B-D5B2-4152-9341-0FF574DA095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DD7-AFE5-43A6-AFD8-66EF2E8F0A6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ED3E-85BD-40CF-8081-5546A79DD24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0364-DD89-4465-89DC-8DD1CCE61C5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114800" y="6249960"/>
            <a:ext cx="795240" cy="608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5C8B-57DB-4D80-87DA-6420BC99D81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C0E-5F6E-4244-9206-EEB239DAE621}" type="slidenum">
              <a:rPr b="0" lang="en-GB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304920" y="3200400"/>
            <a:ext cx="82296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pH CURVES &amp;</a:t>
            </a:r>
            <a:br>
              <a:rPr sz="6000"/>
            </a:br>
            <a:r>
              <a:rPr b="1" lang="en-GB" sz="60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442800" y="3352680"/>
            <a:ext cx="2681280" cy="5806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How pH indicators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581280" y="3352680"/>
            <a:ext cx="16765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methyl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5486400" y="3352680"/>
            <a:ext cx="1905120" cy="642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phenolphtha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442800" y="3976560"/>
            <a:ext cx="374832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Choosing an appropriate indic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800" y="4510080"/>
            <a:ext cx="138600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pH cur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19320" y="4616280"/>
            <a:ext cx="138600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3795840" y="4616280"/>
            <a:ext cx="1309680" cy="1191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strong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396040" y="4616280"/>
            <a:ext cx="138564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strong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996240" y="4616280"/>
            <a:ext cx="1309680" cy="9169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weak acid  weak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428760" y="4952880"/>
            <a:ext cx="140004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423720" y="557676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981080" y="558180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Na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4691160" y="5586480"/>
            <a:ext cx="1557360" cy="33732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Palatino Linotype"/>
              </a:rPr>
              <a:t>diprot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6234120" y="5591160"/>
            <a:ext cx="2057400" cy="405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Na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Palatino Linotype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Palatino Linotype"/>
              </a:rPr>
              <a:t> /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2846520" y="2438280"/>
            <a:ext cx="2689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T08D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2178-67BA-4B95-B7EC-0E3CD34B22D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B95-7D62-44F3-B3E6-5157551DE2D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476360" y="1628640"/>
            <a:ext cx="6120000" cy="223200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476360" y="3860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1476360" y="4437000"/>
            <a:ext cx="6120000" cy="100800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11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81B-07D5-4FA6-BF50-9C34B3EFA45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Group 13"/>
          <p:cNvGrpSpPr/>
          <p:nvPr/>
        </p:nvGrpSpPr>
        <p:grpSpPr>
          <a:xfrm>
            <a:off x="4284720" y="3645000"/>
            <a:ext cx="3816360" cy="1015920"/>
            <a:chOff x="4284720" y="3645000"/>
            <a:chExt cx="3816360" cy="1015920"/>
          </a:xfrm>
        </p:grpSpPr>
        <p:sp>
          <p:nvSpPr>
            <p:cNvPr id="678" name="Line 14"/>
            <p:cNvSpPr/>
            <p:nvPr/>
          </p:nvSpPr>
          <p:spPr>
            <a:xfrm>
              <a:off x="4284720" y="3932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5435640" y="364500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l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A36-6745-4318-A2B9-55F07425B5E0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1476360" y="1484280"/>
            <a:ext cx="6120000" cy="136836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1476360" y="2852640"/>
            <a:ext cx="6120000" cy="57492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12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D1A-2238-4558-9EF9-298BBBFCE08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691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4" name="Object 18"/>
          <p:cNvGraphicFramePr/>
          <p:nvPr/>
        </p:nvGraphicFramePr>
        <p:xfrm>
          <a:off x="395280" y="1125360"/>
          <a:ext cx="80643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F901-EA0B-42D4-BAFB-20DE17EA569C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Object 14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5"/>
          <p:cNvGrpSpPr/>
          <p:nvPr/>
        </p:nvGrpSpPr>
        <p:grpSpPr>
          <a:xfrm>
            <a:off x="4284720" y="2708280"/>
            <a:ext cx="3816360" cy="1015920"/>
            <a:chOff x="4284720" y="2708280"/>
            <a:chExt cx="3816360" cy="1015920"/>
          </a:xfrm>
        </p:grpSpPr>
        <p:sp>
          <p:nvSpPr>
            <p:cNvPr id="703" name="Line 16"/>
            <p:cNvSpPr/>
            <p:nvPr/>
          </p:nvSpPr>
          <p:spPr>
            <a:xfrm>
              <a:off x="4284720" y="29955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7"/>
            <p:cNvSpPr/>
            <p:nvPr/>
          </p:nvSpPr>
          <p:spPr>
            <a:xfrm>
              <a:off x="5435640" y="270828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&gt;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44E-14F8-4984-8430-F67182FA565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13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F89-B08C-447C-8D60-7C715F0E0F2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13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17" name="Rectangle 14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Object 18"/>
          <p:cNvGraphicFramePr/>
          <p:nvPr/>
        </p:nvGraphicFramePr>
        <p:xfrm>
          <a:off x="395280" y="1125360"/>
          <a:ext cx="80643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AC0-4C17-42AF-B721-A4C18639973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12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5"/>
          <p:cNvSpPr/>
          <p:nvPr/>
        </p:nvSpPr>
        <p:spPr>
          <a:xfrm>
            <a:off x="4500720" y="3573360"/>
            <a:ext cx="417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at equi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ends on relative strength of acid an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507C-2E7B-493A-B6AE-50C7C62A5A9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1476360" y="1628640"/>
            <a:ext cx="6120000" cy="136872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76360" y="2997360"/>
            <a:ext cx="6120000" cy="574560"/>
          </a:xfrm>
          <a:prstGeom prst="rect">
            <a:avLst/>
          </a:prstGeom>
          <a:gradFill rotWithShape="0">
            <a:gsLst>
              <a:gs pos="0">
                <a:srgbClr val="ff66cc">
                  <a:alpha val="70196"/>
                </a:srgbClr>
              </a:gs>
              <a:gs pos="100000">
                <a:srgbClr val="fffff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11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E26D-E51D-4FDC-8101-99E12E879E1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Indicators are weak acids which have a different colour to their conjugate base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Palatino Linotype"/>
              </a:rPr>
              <a:t>HIn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</a:t>
            </a:r>
            <a:r>
              <a:rPr b="0" lang="en-GB" sz="4000" spc="-1" strike="noStrike">
                <a:solidFill>
                  <a:srgbClr val="21272e"/>
                </a:solidFill>
                <a:latin typeface="Chemistry Serif"/>
              </a:rPr>
              <a:t>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 H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GB" sz="4000" spc="-1" strike="noStrike">
                <a:solidFill>
                  <a:srgbClr val="21272e"/>
                </a:solidFill>
                <a:latin typeface="Palatino Linotype"/>
              </a:rPr>
              <a:t>  +  </a:t>
            </a:r>
            <a:r>
              <a:rPr b="0" lang="en-GB" sz="4000" spc="-1" strike="noStrike">
                <a:solidFill>
                  <a:srgbClr val="6600ff"/>
                </a:solidFill>
                <a:latin typeface="Palatino Linotype"/>
              </a:rPr>
              <a:t>In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-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baseline="30000">
                <a:solidFill>
                  <a:srgbClr val="ff3300"/>
                </a:solidFill>
                <a:latin typeface="Palatino Linotype"/>
              </a:rPr>
              <a:t>color 1</a:t>
            </a:r>
            <a:r>
              <a:rPr b="0" lang="en-GB" sz="4000" spc="-1" strike="noStrike" baseline="30000">
                <a:solidFill>
                  <a:srgbClr val="21272e"/>
                </a:solidFill>
                <a:latin typeface="Palatino Linotype"/>
              </a:rPr>
              <a:t>                      </a:t>
            </a:r>
            <a:r>
              <a:rPr b="0" lang="en-GB" sz="4000" spc="-1" strike="noStrike" baseline="30000">
                <a:solidFill>
                  <a:srgbClr val="6600ff"/>
                </a:solidFill>
                <a:latin typeface="Palatino Linotype"/>
              </a:rPr>
              <a:t>color 2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1440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pH:  equilibrium pushed left =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col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pH:  equilibrium pushed right = 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col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F3C3-BF4D-453A-88B2-B2CF08EAC9E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cid – Weak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2"/>
          <p:cNvGrpSpPr/>
          <p:nvPr/>
        </p:nvGrpSpPr>
        <p:grpSpPr>
          <a:xfrm>
            <a:off x="1476360" y="1628640"/>
            <a:ext cx="6120000" cy="3816360"/>
            <a:chOff x="1476360" y="1628640"/>
            <a:chExt cx="6120000" cy="3816360"/>
          </a:xfrm>
        </p:grpSpPr>
        <p:sp>
          <p:nvSpPr>
            <p:cNvPr id="741" name="Rectangle 13"/>
            <p:cNvSpPr/>
            <p:nvPr/>
          </p:nvSpPr>
          <p:spPr>
            <a:xfrm>
              <a:off x="1476360" y="162864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1476360" y="386064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76360" y="443700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Object 16"/>
          <p:cNvGraphicFramePr/>
          <p:nvPr/>
        </p:nvGraphicFramePr>
        <p:xfrm>
          <a:off x="395280" y="1197000"/>
          <a:ext cx="7993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7993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B37-DBD9-44C4-9F89-BF9F93D854C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B44-A006-47AD-AFA6-6371DC72511C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9"/>
          <p:cNvGrpSpPr/>
          <p:nvPr/>
        </p:nvGrpSpPr>
        <p:grpSpPr>
          <a:xfrm>
            <a:off x="1476360" y="1628640"/>
            <a:ext cx="6120000" cy="1943280"/>
            <a:chOff x="1476360" y="1628640"/>
            <a:chExt cx="6120000" cy="1943280"/>
          </a:xfrm>
        </p:grpSpPr>
        <p:sp>
          <p:nvSpPr>
            <p:cNvPr id="755" name="Rectangle 3"/>
            <p:cNvSpPr/>
            <p:nvPr/>
          </p:nvSpPr>
          <p:spPr>
            <a:xfrm>
              <a:off x="1476360" y="1628640"/>
              <a:ext cx="6120000" cy="13687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4"/>
            <p:cNvSpPr/>
            <p:nvPr/>
          </p:nvSpPr>
          <p:spPr>
            <a:xfrm>
              <a:off x="1476360" y="2997360"/>
              <a:ext cx="6120000" cy="5745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Text Box 8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11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4EE-CA38-41C9-B761-E351C38AE49F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4"/>
          <p:cNvSpPr/>
          <p:nvPr/>
        </p:nvSpPr>
        <p:spPr>
          <a:xfrm>
            <a:off x="1476360" y="1413000"/>
            <a:ext cx="6120000" cy="235908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1476360" y="3772080"/>
            <a:ext cx="6120000" cy="606240"/>
          </a:xfrm>
          <a:prstGeom prst="rect">
            <a:avLst/>
          </a:prstGeom>
          <a:gradFill rotWithShape="0">
            <a:gsLst>
              <a:gs pos="0">
                <a:srgbClr val="ff9900">
                  <a:alpha val="49019"/>
                </a:srgbClr>
              </a:gs>
              <a:gs pos="100000">
                <a:srgbClr val="cc33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6"/>
          <p:cNvSpPr/>
          <p:nvPr/>
        </p:nvSpPr>
        <p:spPr>
          <a:xfrm>
            <a:off x="1476360" y="4375080"/>
            <a:ext cx="6120000" cy="1065240"/>
          </a:xfrm>
          <a:prstGeom prst="rect">
            <a:avLst/>
          </a:prstGeom>
          <a:solidFill>
            <a:srgbClr val="cc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18"/>
          <p:cNvGraphicFramePr/>
          <p:nvPr/>
        </p:nvGraphicFramePr>
        <p:xfrm>
          <a:off x="395280" y="1125360"/>
          <a:ext cx="80643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E47-4AB9-45DC-9D76-CE95F7B5F739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447920" y="181296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Object 11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 Box 14"/>
          <p:cNvSpPr/>
          <p:nvPr/>
        </p:nvSpPr>
        <p:spPr>
          <a:xfrm>
            <a:off x="3276720" y="1812960"/>
            <a:ext cx="165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9DD0-4963-4F8B-903D-5A4C03A2E7D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1322280" y="1558800"/>
            <a:ext cx="1979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Object 10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11"/>
          <p:cNvSpPr/>
          <p:nvPr/>
        </p:nvSpPr>
        <p:spPr>
          <a:xfrm>
            <a:off x="3124080" y="1558800"/>
            <a:ext cx="2057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12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789" name="Rectangle 13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4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2E2D-9E59-40EB-B189-6C2A4E3D5A3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1263600" y="1600200"/>
            <a:ext cx="2089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1"/>
          <p:cNvSpPr/>
          <p:nvPr/>
        </p:nvSpPr>
        <p:spPr>
          <a:xfrm>
            <a:off x="3159000" y="1600200"/>
            <a:ext cx="2035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12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799" name="Rectangle 13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4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5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2" name="Object 17"/>
          <p:cNvGraphicFramePr/>
          <p:nvPr/>
        </p:nvGraphicFramePr>
        <p:xfrm>
          <a:off x="395280" y="1773360"/>
          <a:ext cx="72010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2010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34BB-4E49-4420-9E6F-B14A7F410DC2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155412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4"/>
          <p:cNvSpPr/>
          <p:nvPr/>
        </p:nvSpPr>
        <p:spPr>
          <a:xfrm>
            <a:off x="3643200" y="174780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Object 15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A99-F493-4B10-9864-28C32E8F7D3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619280" y="1662120"/>
            <a:ext cx="185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Object 11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 Box 12"/>
          <p:cNvSpPr/>
          <p:nvPr/>
        </p:nvSpPr>
        <p:spPr>
          <a:xfrm>
            <a:off x="3708360" y="1662120"/>
            <a:ext cx="185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13"/>
          <p:cNvGrpSpPr/>
          <p:nvPr/>
        </p:nvGrpSpPr>
        <p:grpSpPr>
          <a:xfrm>
            <a:off x="1476360" y="2565360"/>
            <a:ext cx="6120000" cy="1225080"/>
            <a:chOff x="1476360" y="2565360"/>
            <a:chExt cx="6120000" cy="1225080"/>
          </a:xfrm>
        </p:grpSpPr>
        <p:sp>
          <p:nvSpPr>
            <p:cNvPr id="825" name="Rectangle 14"/>
            <p:cNvSpPr/>
            <p:nvPr/>
          </p:nvSpPr>
          <p:spPr>
            <a:xfrm>
              <a:off x="1476360" y="2565360"/>
              <a:ext cx="6120000" cy="862920"/>
            </a:xfrm>
            <a:prstGeom prst="rect">
              <a:avLst/>
            </a:prstGeom>
            <a:solidFill>
              <a:srgbClr val="ff0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76360" y="3428280"/>
              <a:ext cx="6120000" cy="362160"/>
            </a:xfrm>
            <a:prstGeom prst="rect">
              <a:avLst/>
            </a:prstGeom>
            <a:gradFill rotWithShape="0">
              <a:gsLst>
                <a:gs pos="0">
                  <a:srgbClr val="ff66cc">
                    <a:alpha val="70196"/>
                  </a:srgbClr>
                </a:gs>
                <a:gs pos="100000">
                  <a:srgbClr val="ffffff">
                    <a:alpha val="1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0A9-52F4-4566-83CD-79CFEB65F9A5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835280" y="404640"/>
            <a:ext cx="5472000" cy="57960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 H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61928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708360" y="1662120"/>
            <a:ext cx="1778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476360" y="2421000"/>
            <a:ext cx="6120000" cy="3816360"/>
            <a:chOff x="1476360" y="2421000"/>
            <a:chExt cx="6120000" cy="3816360"/>
          </a:xfrm>
        </p:grpSpPr>
        <p:sp>
          <p:nvSpPr>
            <p:cNvPr id="836" name="Rectangle 14"/>
            <p:cNvSpPr/>
            <p:nvPr/>
          </p:nvSpPr>
          <p:spPr>
            <a:xfrm>
              <a:off x="1476360" y="2421000"/>
              <a:ext cx="6120000" cy="2232000"/>
            </a:xfrm>
            <a:prstGeom prst="rect">
              <a:avLst/>
            </a:prstGeom>
            <a:solidFill>
              <a:srgbClr val="ff99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5"/>
            <p:cNvSpPr/>
            <p:nvPr/>
          </p:nvSpPr>
          <p:spPr>
            <a:xfrm>
              <a:off x="1476360" y="4653000"/>
              <a:ext cx="6120000" cy="57492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9019"/>
                  </a:srgbClr>
                </a:gs>
                <a:gs pos="100000">
                  <a:srgbClr val="cc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1476360" y="5229360"/>
              <a:ext cx="6120000" cy="1008000"/>
            </a:xfrm>
            <a:prstGeom prst="rect">
              <a:avLst/>
            </a:prstGeom>
            <a:solidFill>
              <a:srgbClr val="cc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9" name="Object 19"/>
          <p:cNvGraphicFramePr/>
          <p:nvPr/>
        </p:nvGraphicFramePr>
        <p:xfrm>
          <a:off x="395280" y="1844640"/>
          <a:ext cx="74167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416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16D-E12E-4870-B96D-61C8ECD86DB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Methyl orange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09" name="Rectangle 1031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1030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6048360" cy="14432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34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029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7272360" cy="14223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090"/>
          <p:cNvSpPr/>
          <p:nvPr/>
        </p:nvSpPr>
        <p:spPr>
          <a:xfrm>
            <a:off x="2484360" y="1844640"/>
            <a:ext cx="1728720" cy="36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091"/>
          <p:cNvSpPr/>
          <p:nvPr/>
        </p:nvSpPr>
        <p:spPr>
          <a:xfrm>
            <a:off x="4284720" y="184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93"/>
          <p:cNvSpPr/>
          <p:nvPr/>
        </p:nvSpPr>
        <p:spPr>
          <a:xfrm>
            <a:off x="6804000" y="24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94"/>
          <p:cNvSpPr/>
          <p:nvPr/>
        </p:nvSpPr>
        <p:spPr>
          <a:xfrm>
            <a:off x="3059280" y="5445000"/>
            <a:ext cx="1728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95"/>
          <p:cNvSpPr/>
          <p:nvPr/>
        </p:nvSpPr>
        <p:spPr>
          <a:xfrm>
            <a:off x="4932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4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"/>
          <p:cNvSpPr/>
          <p:nvPr/>
        </p:nvSpPr>
        <p:spPr>
          <a:xfrm>
            <a:off x="7377120" y="419112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152280"/>
            <a:ext cx="81788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Palatino Linotype"/>
              </a:rPr>
              <a:t>pH meter</a:t>
            </a:r>
            <a:endParaRPr b="0" lang="en-US" sz="6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Tests the voltage of the electroly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Converts the voltage to p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Very cheap, accurat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Must be calibrated with a buffer solu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dedee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7454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alt Solutions and Relative pH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Ions can exhibit acidic or basic properties. For example, NH</a:t>
            </a:r>
            <a:r>
              <a:rPr b="0" lang="en-US" sz="32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acidic, and F</a:t>
            </a:r>
            <a:r>
              <a:rPr b="0" lang="en-US" sz="3200" spc="-1" strike="noStrike" baseline="30000">
                <a:solidFill>
                  <a:srgbClr val="21272e"/>
                </a:solidFill>
                <a:latin typeface="Palatino Linotype"/>
              </a:rPr>
              <a:t>-</a:t>
            </a: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 is basic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72e"/>
                </a:solidFill>
                <a:latin typeface="Palatino Linotype"/>
              </a:rPr>
              <a:t>Salts, being strong electrolytes, dissociate completely in aqueous solution to produce the ions which they are composed of. Therefore, salt solutions can be acidic, basic or neutral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Acidic or Basic Salt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 is formed between the reaction of an acid and a base. Usually, a neutral salt is formed when a strong acid and a strong base is neutralized in the reaction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When weak acids and bases react, the relative strength of the conjugated acid-base pair in the salt determines the pH of its solutions. The salt, or its solution, so formed can be acidic, neutral or basic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strong acid and a weak base is an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acid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l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A salt formed between a weak acid and a strong base is a </a:t>
            </a:r>
            <a:r>
              <a:rPr b="1" lang="en-US" sz="2400" spc="-1" strike="noStrike">
                <a:solidFill>
                  <a:srgbClr val="21272e"/>
                </a:solidFill>
                <a:latin typeface="Palatino Linotype"/>
              </a:rPr>
              <a:t>basic salt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, for example NaCH</a:t>
            </a:r>
            <a:r>
              <a:rPr b="0" lang="en-US" sz="24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CO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7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2e"/>
                </a:solidFill>
                <a:latin typeface="Palatino Linotype"/>
              </a:rPr>
              <a:t>These salts are acidic or basic due to their acidic or basic ion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Hydrolysis of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ydrolysis refers to a reaction with water (e.g. splitting water into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and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hen salts are added to water, pH can chang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E.g. when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is added to water, ions for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3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ese ions may react with H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O, affecting the p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 (aq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If the anion (-ve) reacts to remove lots of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but the cation (+ve) removes very little 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, then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decrease and the solution will be basic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8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The degree of hydrolysi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(aq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NaOH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problem with writing equilibria this way is we do not know the strength of the reaction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owever, if we reverse the reaction we can look up Ka and Kb valu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2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2952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    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OH </a:t>
            </a:r>
            <a:r>
              <a:rPr b="1" lang="en-CA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1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5257800" y="37339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a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4.5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b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52280" y="4800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mall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Ka: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few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roducts;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adding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3–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=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shift</a:t>
            </a:r>
            <a:r>
              <a:rPr b="0" lang="en-CA" sz="36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Large Kb: mostly products; Na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has little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>
              <a:lnSpc>
                <a:spcPct val="100000"/>
              </a:lnSpc>
              <a:spcBef>
                <a:spcPts val="176"/>
              </a:spcBef>
              <a:buClr>
                <a:srgbClr val="21272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Thus, adding Na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PO</a:t>
            </a:r>
            <a:r>
              <a:rPr b="0" lang="en-CA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will cause more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to be removed, resulting in a bas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8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852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3737"/>
                </a:solidFill>
                <a:latin typeface="Palatino Linotype"/>
              </a:rPr>
              <a:t>Spectator 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 that all cations, except those of alkali and alkaline earth metals ( which do not hydrolyze in water and, therefore, do not affect pH ), act as weak acids in solution. (See Section 10 for a detailed explanation.)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 relative concentrations of these ions then determine the acidic or basic properties of the solution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e :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The ions of strong acids and strong bases do </a:t>
            </a:r>
            <a:r>
              <a:rPr b="0" i="1" lang="en-US" sz="2800" spc="-1" strike="noStrike">
                <a:solidFill>
                  <a:srgbClr val="21272e"/>
                </a:solidFill>
                <a:latin typeface="Palatino Linotype"/>
              </a:rPr>
              <a:t>not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ydrolyze! They are so weak that they are known as 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spectator ions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. Only ions of weak acids and bases hydrolyze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12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Accuracy of prediction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Theoretically, using Ka and Kb values you could predict the exact pH resulting from a certain salt being added to distilled water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owever, you only need to be able to predict if a solution will be acidic, basic, or neutral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you can’t judge the pH change solely on the difference between Ka and Kb.  Other factors are involved (e.g. the formula of the compound and its molar mass both affect [ ]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618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ote: hydrolysis refers to reactions with water. Several variations for writing equilibriums exist.  However, focusing on how th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/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balance of water is affected is easiest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8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Palatino Linotype"/>
              </a:rPr>
              <a:t>Steps in determining pH 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Write the ions that form: e.g.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+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the reaction ions have with water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9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           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2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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11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        </a:t>
            </a:r>
            <a:r>
              <a:rPr b="0" lang="en-CA" sz="1800" spc="-1" strike="noStrike">
                <a:solidFill>
                  <a:srgbClr val="21272e"/>
                </a:solidFill>
                <a:latin typeface="Palatino Linotype"/>
              </a:rPr>
              <a:t>                  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 </a:t>
            </a:r>
            <a:r>
              <a:rPr b="1" lang="en-US" sz="2800" spc="-1" strike="noStrike">
                <a:solidFill>
                  <a:srgbClr val="21272e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 + 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>
              <a:lnSpc>
                <a:spcPct val="95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Look up the Ka of the conjugate acid and the Kb of the conjugate base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52280" y="5638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21272e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Determine if more H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or O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More H</a:t>
            </a:r>
            <a:r>
              <a:rPr b="1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is removed, therefore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2328840" y="4191120"/>
            <a:ext cx="21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4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OH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2912400" y="473724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NH</a:t>
            </a:r>
            <a:r>
              <a:rPr b="0" lang="en-US" sz="2800" spc="-1" strike="noStrike" baseline="-25000">
                <a:solidFill>
                  <a:srgbClr val="21272e"/>
                </a:solidFill>
                <a:latin typeface="Palatino Linotype"/>
              </a:rPr>
              <a:t>3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7"/>
          <p:cNvSpPr/>
          <p:nvPr/>
        </p:nvSpPr>
        <p:spPr>
          <a:xfrm>
            <a:off x="2406600" y="4791240"/>
            <a:ext cx="2057400" cy="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1858320" y="52117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1.8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1252080" y="44197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b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6053760" y="41148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 –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[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H</a:t>
            </a:r>
            <a:r>
              <a:rPr b="0" lang="en-CA" sz="2800" spc="-1" strike="noStrike" baseline="30000">
                <a:solidFill>
                  <a:srgbClr val="21272e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6204960" y="46609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[H</a:t>
            </a:r>
            <a:r>
              <a:rPr b="0" lang="en-CA" sz="2800" spc="-1" strike="noStrike">
                <a:solidFill>
                  <a:srgbClr val="21272e"/>
                </a:solidFill>
                <a:latin typeface="Palatino Linotype"/>
              </a:rPr>
              <a:t>CN</a:t>
            </a: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6019920" y="4714920"/>
            <a:ext cx="1860480" cy="9360"/>
          </a:xfrm>
          <a:prstGeom prst="line">
            <a:avLst/>
          </a:prstGeom>
          <a:ln w="38160">
            <a:solidFill>
              <a:srgbClr val="212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3"/>
          <p:cNvSpPr/>
          <p:nvPr/>
        </p:nvSpPr>
        <p:spPr>
          <a:xfrm>
            <a:off x="5518440" y="51354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= 6.2 x 10</a:t>
            </a:r>
            <a:r>
              <a:rPr b="1" lang="en-CA" sz="2800" spc="-1" strike="noStrike" baseline="30000">
                <a:solidFill>
                  <a:srgbClr val="21272e"/>
                </a:solidFill>
                <a:latin typeface="Palatino Linotype"/>
              </a:rPr>
              <a:t>–</a:t>
            </a:r>
            <a:r>
              <a:rPr b="0" lang="en-US" sz="2800" spc="-1" strike="noStrike" baseline="30000">
                <a:solidFill>
                  <a:srgbClr val="21272e"/>
                </a:solidFill>
                <a:latin typeface="Palatino Linotyp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4"/>
          <p:cNvSpPr/>
          <p:nvPr/>
        </p:nvSpPr>
        <p:spPr>
          <a:xfrm>
            <a:off x="4899600" y="434340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2e"/>
                </a:solidFill>
                <a:latin typeface="Palatino Linotype"/>
              </a:rPr>
              <a:t>K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2"/>
          <p:cNvSpPr/>
          <p:nvPr/>
        </p:nvSpPr>
        <p:spPr>
          <a:xfrm>
            <a:off x="6095880" y="4638600"/>
            <a:ext cx="160020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2038320" y="4151160"/>
            <a:ext cx="2873520" cy="5731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8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rst element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pperplate Gothic Bold"/>
              </a:rPr>
              <a:t>hydrogen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 = Acid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0" y="1263600"/>
            <a:ext cx="4495680" cy="647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Bi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another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hydro-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Use –ic suf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Cl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F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648320" y="1263600"/>
            <a:ext cx="4495680" cy="58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xyacid / P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 and 2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O pref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a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f poly –it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-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0B5-43AC-4AB3-8398-46DB786851E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028" descr="C:\My Documents\Steve\College\Chemistry\Curric 2000\Module 4\7 Acids and Bases\pH titrations\BC_Methyl Orange.jpg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29"/>
          <p:cNvSpPr/>
          <p:nvPr/>
        </p:nvSpPr>
        <p:spPr>
          <a:xfrm>
            <a:off x="246240" y="515304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0"/>
          <p:cNvSpPr/>
          <p:nvPr/>
        </p:nvSpPr>
        <p:spPr>
          <a:xfrm>
            <a:off x="6799320" y="5162400"/>
            <a:ext cx="195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1"/>
          <p:cNvSpPr/>
          <p:nvPr/>
        </p:nvSpPr>
        <p:spPr>
          <a:xfrm>
            <a:off x="3352680" y="5181480"/>
            <a:ext cx="221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en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9720" y="304920"/>
            <a:ext cx="8229600" cy="9144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pperplate Gothic Bold"/>
              </a:rPr>
              <a:t>Acid Nomenclature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grpSp>
        <p:nvGrpSpPr>
          <p:cNvPr id="879" name="Group 4"/>
          <p:cNvGrpSpPr/>
          <p:nvPr/>
        </p:nvGrpSpPr>
        <p:grpSpPr>
          <a:xfrm>
            <a:off x="838080" y="1828800"/>
            <a:ext cx="7467840" cy="4501800"/>
            <a:chOff x="838080" y="1828800"/>
            <a:chExt cx="7467840" cy="4501800"/>
          </a:xfrm>
        </p:grpSpPr>
        <p:sp>
          <p:nvSpPr>
            <p:cNvPr id="880" name="Rectangle 21"/>
            <p:cNvSpPr/>
            <p:nvPr/>
          </p:nvSpPr>
          <p:spPr>
            <a:xfrm>
              <a:off x="838080" y="3268440"/>
              <a:ext cx="746784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0"/>
            <p:cNvSpPr/>
            <p:nvPr/>
          </p:nvSpPr>
          <p:spPr>
            <a:xfrm>
              <a:off x="1038600" y="2213280"/>
              <a:ext cx="3025080" cy="424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1055520" y="34117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Representative “-ic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8"/>
            <p:cNvSpPr/>
            <p:nvPr/>
          </p:nvSpPr>
          <p:spPr>
            <a:xfrm>
              <a:off x="1100160" y="4673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ous”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7"/>
            <p:cNvSpPr/>
            <p:nvPr/>
          </p:nvSpPr>
          <p:spPr>
            <a:xfrm>
              <a:off x="1066680" y="59068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ou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063040" y="219852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per- 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5"/>
            <p:cNvSpPr/>
            <p:nvPr/>
          </p:nvSpPr>
          <p:spPr>
            <a:xfrm>
              <a:off x="5040720" y="342144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14"/>
            <p:cNvSpPr/>
            <p:nvPr/>
          </p:nvSpPr>
          <p:spPr>
            <a:xfrm>
              <a:off x="5040720" y="469368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13"/>
            <p:cNvSpPr/>
            <p:nvPr/>
          </p:nvSpPr>
          <p:spPr>
            <a:xfrm>
              <a:off x="5029560" y="5897160"/>
              <a:ext cx="3025080" cy="423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hypo- -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4075200" y="241056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1"/>
            <p:cNvSpPr/>
            <p:nvPr/>
          </p:nvSpPr>
          <p:spPr>
            <a:xfrm>
              <a:off x="4075200" y="3613680"/>
              <a:ext cx="9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0"/>
            <p:cNvSpPr/>
            <p:nvPr/>
          </p:nvSpPr>
          <p:spPr>
            <a:xfrm>
              <a:off x="4153320" y="4885920"/>
              <a:ext cx="89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"/>
            <p:cNvSpPr/>
            <p:nvPr/>
          </p:nvSpPr>
          <p:spPr>
            <a:xfrm>
              <a:off x="4108680" y="6099120"/>
              <a:ext cx="91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8"/>
            <p:cNvSpPr/>
            <p:nvPr/>
          </p:nvSpPr>
          <p:spPr>
            <a:xfrm flipV="1">
              <a:off x="2557080" y="2627280"/>
              <a:ext cx="11160" cy="74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7"/>
            <p:cNvSpPr/>
            <p:nvPr/>
          </p:nvSpPr>
          <p:spPr>
            <a:xfrm flipH="1">
              <a:off x="2545560" y="3830760"/>
              <a:ext cx="1116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6"/>
            <p:cNvSpPr/>
            <p:nvPr/>
          </p:nvSpPr>
          <p:spPr>
            <a:xfrm flipH="1">
              <a:off x="2567880" y="5113080"/>
              <a:ext cx="11160" cy="78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5"/>
            <p:cNvSpPr/>
            <p:nvPr/>
          </p:nvSpPr>
          <p:spPr>
            <a:xfrm>
              <a:off x="4075200" y="1828800"/>
              <a:ext cx="99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31"/>
          <p:cNvSpPr/>
          <p:nvPr/>
        </p:nvSpPr>
        <p:spPr>
          <a:xfrm>
            <a:off x="0" y="1446480"/>
            <a:ext cx="89708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c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Times New Roman"/>
              </a:rPr>
              <a:t>Oxya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+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-[O]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5494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2"/>
          <p:cNvSpPr/>
          <p:nvPr/>
        </p:nvSpPr>
        <p:spPr>
          <a:xfrm>
            <a:off x="4038480" y="14479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mov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C8B-7AD5-4984-AB24-C2F0481D5278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Palatino Linotype"/>
              </a:rPr>
              <a:t>Phenolphthalein</a:t>
            </a:r>
            <a:endParaRPr b="0" lang="en-US" sz="4000" spc="-1" strike="noStrike">
              <a:solidFill>
                <a:srgbClr val="c00000"/>
              </a:solidFill>
              <a:latin typeface="Palatino Linotype"/>
            </a:endParaRPr>
          </a:p>
        </p:txBody>
      </p:sp>
      <p:pic>
        <p:nvPicPr>
          <p:cNvPr id="626" name="Picture 103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780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27"/>
          <p:cNvSpPr/>
          <p:nvPr/>
        </p:nvSpPr>
        <p:spPr>
          <a:xfrm>
            <a:off x="-37080" y="29304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029"/>
          <p:cNvSpPr/>
          <p:nvPr/>
        </p:nvSpPr>
        <p:spPr>
          <a:xfrm>
            <a:off x="-42840" y="2976480"/>
            <a:ext cx="45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33"/>
          <p:cNvSpPr/>
          <p:nvPr/>
        </p:nvSpPr>
        <p:spPr>
          <a:xfrm>
            <a:off x="349236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hemistry Serif"/>
              </a:rPr>
              <a:t>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034"/>
          <p:cNvSpPr/>
          <p:nvPr/>
        </p:nvSpPr>
        <p:spPr>
          <a:xfrm>
            <a:off x="5364000" y="5445000"/>
            <a:ext cx="17290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35"/>
          <p:cNvSpPr/>
          <p:nvPr/>
        </p:nvSpPr>
        <p:spPr>
          <a:xfrm>
            <a:off x="5651640" y="5877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gt; 10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038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40"/>
          <p:cNvSpPr/>
          <p:nvPr/>
        </p:nvSpPr>
        <p:spPr>
          <a:xfrm>
            <a:off x="1332000" y="5877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H &lt; 8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041"/>
          <p:cNvSpPr/>
          <p:nvPr/>
        </p:nvSpPr>
        <p:spPr>
          <a:xfrm>
            <a:off x="1042920" y="5445000"/>
            <a:ext cx="172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7772400" y="3159000"/>
            <a:ext cx="1044720" cy="1433520"/>
          </a:xfrm>
          <a:prstGeom prst="ellipse">
            <a:avLst/>
          </a:prstGeom>
          <a:noFill/>
          <a:ln w="2844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A269-A4C9-4016-86C9-4E8F4D823B56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C:\My Documents\Steve\College\Chemistry\Curric 2000\Module 4\7 Acids and Bases\pH titrations\BC_Phth deep pink.jpg"/>
          <p:cNvPicPr/>
          <p:nvPr/>
        </p:nvPicPr>
        <p:blipFill>
          <a:blip r:embed="rId1"/>
          <a:stretch/>
        </p:blipFill>
        <p:spPr>
          <a:xfrm>
            <a:off x="228600" y="304920"/>
            <a:ext cx="8362800" cy="594036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1676520" y="572940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5410080" y="572940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Palatino Linotype"/>
              </a:rPr>
              <a:t>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2743200" y="30492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enolphthal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9F91-451C-4EA3-B5C6-6E8022C05C2E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3737"/>
                </a:solidFill>
                <a:latin typeface="Palatino Linotype"/>
              </a:rPr>
              <a:t>INDICATORS</a:t>
            </a:r>
            <a:endParaRPr b="0" lang="en-US" sz="4800" spc="-1" strike="noStrike">
              <a:solidFill>
                <a:srgbClr val="c00000"/>
              </a:solidFill>
              <a:latin typeface="Palatino Linotyp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9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For an indicator to work in a titration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1272e"/>
                </a:solidFill>
                <a:latin typeface="Palatino Linotype"/>
              </a:rPr>
              <a:t>The pH range of the indicator’s color change must be within the range of the pH change at the end-point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3EE9-2C65-42B6-A2BB-06E8570FDDBB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68360" y="1989000"/>
          <a:ext cx="8229600" cy="3816360"/>
        </p:xfrm>
        <a:graphic>
          <a:graphicData uri="http://schemas.openxmlformats.org/drawingml/2006/table">
            <a:tbl>
              <a:tblPr/>
              <a:tblGrid>
                <a:gridCol w="2374920"/>
                <a:gridCol w="1657440"/>
                <a:gridCol w="2376360"/>
                <a:gridCol w="1820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ange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 –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Palatino Linotype"/>
              </a:rPr>
              <a:t>INDICATORS</a:t>
            </a:r>
            <a:endParaRPr b="0" lang="en-US" sz="5400" spc="-1" strike="noStrike">
              <a:solidFill>
                <a:srgbClr val="c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C1B0-EABE-4676-B99B-308244F1CA61}" type="slidenum">
              <a:rPr b="0" lang="en-GB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763640" y="549360"/>
            <a:ext cx="5472360" cy="520560"/>
          </a:xfrm>
          <a:prstGeom prst="rect">
            <a:avLst/>
          </a:prstGeom>
          <a:solidFill>
            <a:srgbClr val="33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acid – Strong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Object 8"/>
          <p:cNvGraphicFramePr/>
          <p:nvPr/>
        </p:nvGraphicFramePr>
        <p:xfrm>
          <a:off x="395280" y="1125360"/>
          <a:ext cx="806436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0643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2" name="Group 11"/>
          <p:cNvGrpSpPr/>
          <p:nvPr/>
        </p:nvGrpSpPr>
        <p:grpSpPr>
          <a:xfrm>
            <a:off x="4284720" y="3141720"/>
            <a:ext cx="3816360" cy="1015920"/>
            <a:chOff x="4284720" y="3141720"/>
            <a:chExt cx="3816360" cy="1015920"/>
          </a:xfrm>
        </p:grpSpPr>
        <p:sp>
          <p:nvSpPr>
            <p:cNvPr id="653" name="Line 9"/>
            <p:cNvSpPr/>
            <p:nvPr/>
          </p:nvSpPr>
          <p:spPr>
            <a:xfrm>
              <a:off x="4284720" y="34290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5435640" y="3141720"/>
              <a:ext cx="266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H at equival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6:04:30Z</dcterms:created>
  <dc:creator>scheffler</dc:creator>
  <dc:description/>
  <dc:language>en-US</dc:language>
  <cp:lastModifiedBy>ECATECH</cp:lastModifiedBy>
  <cp:lastPrinted>2010-09-06T19:19:07Z</cp:lastPrinted>
  <dcterms:modified xsi:type="dcterms:W3CDTF">2010-09-09T12:59:13Z</dcterms:modified>
  <cp:revision>83</cp:revision>
  <dc:subject/>
  <dc:title>Introduction to Chemistry</dc:title>
</cp:coreProperties>
</file>